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E8C-439E-4C2B-94B6-7209AD1E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EDA-E871-4778-B681-F1739A28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444-31E4-4158-A883-ECE5151A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0B6-4B83-48DF-B21C-51D4AE80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2E6-D136-4A19-A700-2DE0AB4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B9C-7B71-4432-AB51-FC1019C0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D03-10D0-4B5A-8A93-DC57D8B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A53-F8EA-479B-99E9-C340E863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B37-C71F-4EEB-8C30-38B3775D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842-F25B-4C91-9950-9F7861F0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49A-D81F-413D-8C1C-FDB1BE4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206-8129-481A-9513-8E1F582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22A8-8B8A-404C-BE72-4E9DCB8E8B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67F8-D815-4A17-B06B-E39EA83C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on the third nest 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315200" y="6324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ENRI10L-2009100712_HWRFx-HFIP-DEMO_wind-swath.gif"/>
          <p:cNvPicPr/>
          <p:nvPr/>
        </p:nvPicPr>
        <p:blipFill>
          <a:blip r:embed="rId1"/>
          <a:srcRect l="14400" t="4800" r="9600" b="8000"/>
          <a:stretch/>
        </p:blipFill>
        <p:spPr>
          <a:xfrm>
            <a:off x="609480" y="162000"/>
            <a:ext cx="2606760" cy="22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ENRI10L-2009100800_HWRFx-HFIP-DEMO_wind-swath.gif"/>
          <p:cNvPicPr/>
          <p:nvPr/>
        </p:nvPicPr>
        <p:blipFill>
          <a:blip r:embed="rId2"/>
          <a:srcRect l="14400" t="4800" r="9600" b="8000"/>
          <a:stretch/>
        </p:blipFill>
        <p:spPr>
          <a:xfrm>
            <a:off x="3276720" y="162000"/>
            <a:ext cx="2606400" cy="22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ENRI10L-2009100812_HWRFx-HFIP-DEMO_wind-swath.gif"/>
          <p:cNvPicPr/>
          <p:nvPr/>
        </p:nvPicPr>
        <p:blipFill>
          <a:blip r:embed="rId3"/>
          <a:srcRect l="14400" t="4800" r="9600" b="8000"/>
          <a:stretch/>
        </p:blipFill>
        <p:spPr>
          <a:xfrm>
            <a:off x="5973840" y="149400"/>
            <a:ext cx="2604960" cy="224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ENRI10L-2009100712_WRF-DEMO_wind-swath.gif"/>
          <p:cNvPicPr/>
          <p:nvPr/>
        </p:nvPicPr>
        <p:blipFill>
          <a:blip r:embed="rId4"/>
          <a:srcRect l="14400" t="9600" r="9600" b="8000"/>
          <a:stretch/>
        </p:blipFill>
        <p:spPr>
          <a:xfrm>
            <a:off x="609480" y="2417760"/>
            <a:ext cx="2606760" cy="211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ENRI10L-2009100800_WRF-DEMO_wind-swath.gif"/>
          <p:cNvPicPr/>
          <p:nvPr/>
        </p:nvPicPr>
        <p:blipFill>
          <a:blip r:embed="rId5"/>
          <a:srcRect l="14400" t="9600" r="9600" b="8000"/>
          <a:stretch/>
        </p:blipFill>
        <p:spPr>
          <a:xfrm>
            <a:off x="3276720" y="2417760"/>
            <a:ext cx="2606400" cy="21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ENRI10L-2009100812_WRF-DEMO_wind-swath.gif"/>
          <p:cNvPicPr/>
          <p:nvPr/>
        </p:nvPicPr>
        <p:blipFill>
          <a:blip r:embed="rId6"/>
          <a:srcRect l="14400" t="9600" r="9600" b="8000"/>
          <a:stretch/>
        </p:blipFill>
        <p:spPr>
          <a:xfrm>
            <a:off x="5973840" y="2408400"/>
            <a:ext cx="2604960" cy="211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ENRI10L-2009100712_WRF-DEMO-NEW_wind-swath.gif"/>
          <p:cNvPicPr/>
          <p:nvPr/>
        </p:nvPicPr>
        <p:blipFill>
          <a:blip r:embed="rId7"/>
          <a:srcRect l="14400" t="9600" r="9600" b="4800"/>
          <a:stretch/>
        </p:blipFill>
        <p:spPr>
          <a:xfrm>
            <a:off x="609480" y="4562640"/>
            <a:ext cx="2606760" cy="2199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HENRI10L-2009100800_WRF-DEMO-NEW_wind-swath.gif"/>
          <p:cNvPicPr/>
          <p:nvPr/>
        </p:nvPicPr>
        <p:blipFill>
          <a:blip r:embed="rId8"/>
          <a:srcRect l="14400" t="9600" r="9600" b="4800"/>
          <a:stretch/>
        </p:blipFill>
        <p:spPr>
          <a:xfrm>
            <a:off x="3276720" y="4564080"/>
            <a:ext cx="2606400" cy="22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ENRI10L-2009100812_WRF-DEMO-NEW_wind-swath.gif"/>
          <p:cNvPicPr/>
          <p:nvPr/>
        </p:nvPicPr>
        <p:blipFill>
          <a:blip r:embed="rId9"/>
          <a:srcRect l="14400" t="9600" r="9600" b="4800"/>
          <a:stretch/>
        </p:blipFill>
        <p:spPr>
          <a:xfrm>
            <a:off x="5970600" y="4564080"/>
            <a:ext cx="2604960" cy="2201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7391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1908000" y="9097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75240" y="9144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7318440" y="9144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 rot="16200000">
            <a:off x="-528480" y="122328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oper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 rot="16200000">
            <a:off x="-122400" y="328104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 rot="16200000">
            <a:off x="-112680" y="541440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1:46:35Z</dcterms:created>
  <dc:creator>xzhang</dc:creator>
  <dc:description/>
  <dc:language>en-US</dc:language>
  <cp:lastModifiedBy>Seminar</cp:lastModifiedBy>
  <dcterms:modified xsi:type="dcterms:W3CDTF">2009-10-15T14:44:52Z</dcterms:modified>
  <cp:revision>16</cp:revision>
  <dc:subject/>
  <dc:title>Progress on the third nest  development</dc:title>
</cp:coreProperties>
</file>